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247-DEBD-487B-910C-766A254E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46D-9A2E-4F66-8E5A-08657AE2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3DF-E40B-406F-926F-90F4C8FC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A38-E500-4621-BA96-555AB89C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B7B-7BB5-4EFA-9EFC-42403AD4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804-00C1-4F7F-ACA4-20AB562E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E10-6EAE-4E55-BA4F-3629E055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4CE-6FB4-4702-B09C-E5131046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F83-205B-412A-8AED-29A30E7E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DD8-EDDA-4524-A256-728E3A1A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D7F-64AA-4068-AA6B-374A41D5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D09-71A5-4248-BC28-8B3D8EFC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97AE-4EC5-4C2C-B553-529B7AE46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Arial"/>
              </a:rPr>
              <a:t>Settlement Pattern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More than 90% of our population is within 600 km of the American border</a:t>
            </a:r>
            <a:br>
              <a:rPr sz="4000"/>
            </a:b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is represents less than 10% of our land area, but most of our major cities and </a:t>
            </a: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productive farmland  </a:t>
            </a: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(see map p.20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re are 2 main categories in Canada:  </a:t>
            </a:r>
            <a:r>
              <a:rPr b="1" lang="en-CA" sz="4000" spc="-1" strike="noStrike" u="sng">
                <a:solidFill>
                  <a:srgbClr val="000000"/>
                </a:solidFill>
                <a:uFillTx/>
                <a:latin typeface="Arial"/>
              </a:rPr>
              <a:t>Rural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CA" sz="4000" spc="-1" strike="noStrike" u="sng">
                <a:solidFill>
                  <a:srgbClr val="000000"/>
                </a:solidFill>
                <a:uFillTx/>
                <a:latin typeface="Arial"/>
              </a:rPr>
              <a:t>Urb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RURAL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: most rural Canadians are located  within one of these (historical) patterns:</a:t>
            </a:r>
            <a:br>
              <a:rPr sz="4000"/>
            </a:b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Long lots of Quebec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Concession system of Ontario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Section system of the Prai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3 Factors affect the pattern in any are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CA" sz="4000" spc="-1" strike="noStrike">
                <a:solidFill>
                  <a:srgbClr val="000000"/>
                </a:solidFill>
                <a:latin typeface="Arial"/>
              </a:rPr>
              <a:t>What kind of resources are in the area?  (i.e.. agriculture or forestry or fish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2. What transportation methods were available at the time of settlement? (i.e.. water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   transport usually preceded roads. Was that the case in the Ottawa region? Canada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   generally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3.  What role did government policy play in the settlement? (i.e.. planning, size and shape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    of lots. A set of rules is called a 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urvey system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and different systems were used in different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    parts of Canada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Rural 1: Long lots of Quebec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  (refer page 205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ttled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efor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ailways and good roads and surveys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st important influence was the agricultural resources and river transpor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ng thin farms were built along the St. Lawrence River; each farm had access to the river for transportation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n as long lots; when river lots were taken, a second (&amp; 3rd and 4th) were settled were settled on a road parallel to the river (see picture in text p. 2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s Canada’s population evenly distributed across the country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480" y="210960"/>
            <a:ext cx="8001000" cy="649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Rural 2:  Concession System of Southern Ontario  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(refer page 20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gricultural resources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ttled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survey system was in place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ads and later railways, were available, so access to rivers and lakes was less importa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variety of concession systems were used. Roads were typically 1 mile (sometimes 2 km) and farms were 40-80 hectares in size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ings of concession blocks were called townships and groups of townships were called cou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58680"/>
            <a:ext cx="7391520" cy="679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Rural 3: Section System of the Southern Prairies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(refer page 20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rveyed before major settlement occurred using the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“Section System”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Simple System.  Land was divided into blocks 9.6km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by 9.6km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94 km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area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block is divided into 36 sections, each of which is divided into 4 lots called quarter-sections (64 ha in size)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Due to low rainfall levels, farms needed to be made bigger in order to survive.  This gave rise to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“farm consolid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0840" y="888840"/>
            <a:ext cx="8840880" cy="49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71600" y="282600"/>
            <a:ext cx="6553080" cy="627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How would you describe the distrib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RBAN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: most Canadians (82%) lived in a rural setting in 1867.  Today approximately 80% of the population lives in cities and tow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00200" y="1212840"/>
            <a:ext cx="5867280" cy="454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An urban center can grow for a number of different reasons such as:</a:t>
            </a:r>
            <a:br>
              <a:rPr sz="4000"/>
            </a:b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Manufacturing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Transportation Hub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Resource B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Servi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cities’ existence can depend on one urban function.  An urban center that grows for a few different reasons is called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diversified urban center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How would you describe the distrib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57360" y="1666800"/>
            <a:ext cx="5529240" cy="481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y is our population distributed the way it i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ettlement Patterns: (p. 201) the arrangement of where people live in a country and the factors that influence the arrang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CA" sz="4400" spc="-1" strike="noStrike" u="sng">
                <a:solidFill>
                  <a:srgbClr val="000000"/>
                </a:solidFill>
                <a:uFillTx/>
                <a:latin typeface="Arial"/>
              </a:rPr>
              <a:t>Dispersed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-  found in areas that have a strong agricultural base; spread out on farms</a:t>
            </a:r>
            <a:br>
              <a:rPr sz="4000"/>
            </a:br>
            <a:br>
              <a:rPr sz="4000"/>
            </a:br>
            <a:r>
              <a:rPr b="1" i="1" lang="en-CA" sz="4400" spc="-1" strike="noStrike" u="sng">
                <a:solidFill>
                  <a:srgbClr val="000000"/>
                </a:solidFill>
                <a:uFillTx/>
                <a:latin typeface="Arial"/>
              </a:rPr>
              <a:t>Concentrated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- found where resources are focused in small areas; tow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Linear - (a type of concentrated pattern) found along lines </a:t>
            </a: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(e.g. highway, riv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908440"/>
            <a:ext cx="8229600" cy="364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ote: Population Density is different. It is</a:t>
            </a:r>
            <a:br>
              <a:rPr sz="4000"/>
            </a:br>
            <a:br>
              <a:rPr sz="2000"/>
            </a:br>
            <a:r>
              <a:rPr b="1" lang="en-CA" sz="4000" spc="-1" strike="noStrike" u="sng">
                <a:solidFill>
                  <a:srgbClr val="000000"/>
                </a:solidFill>
                <a:uFillTx/>
                <a:latin typeface="Arial"/>
              </a:rPr>
              <a:t>Population</a:t>
            </a: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rea</a:t>
            </a:r>
            <a:br>
              <a:rPr sz="4000"/>
            </a:br>
            <a:br>
              <a:rPr sz="2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or the number of people per km²</a:t>
            </a:r>
            <a:br>
              <a:rPr sz="4000"/>
            </a:b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27:10Z</dcterms:created>
  <dc:creator>Customer</dc:creator>
  <dc:description/>
  <dc:language>en-US</dc:language>
  <cp:lastModifiedBy>OCDSB User</cp:lastModifiedBy>
  <dcterms:modified xsi:type="dcterms:W3CDTF">2011-04-20T19:14:25Z</dcterms:modified>
  <cp:revision>18</cp:revision>
  <dc:subject/>
  <dc:title>Settlement Patterns </dc:title>
</cp:coreProperties>
</file>